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036F-0BDB-4E6D-B57B-0C8C69BD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8C25-9A44-47AE-8614-D8CB337C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4A8E-4EF0-40D7-A5C6-5D31201D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00E9-ACCD-4058-B192-9D7D1EFA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5682-4D62-4918-B5CE-1D6F1883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0FA4-9E0E-47E7-A321-EA178940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C43D-F6C0-49E8-8C19-BB5376B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117A-A8D0-4988-98F3-4B687921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EECC-0E84-4CE6-925E-6924A04C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D49F-C283-41CD-9168-B1980A9A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3C3E-4ED1-4CD1-92DC-31473348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9309-8C0B-4586-A882-D18F908B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D39E-D506-4EB6-9779-14A8434D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E152-8A2B-478F-8B69-E5A68A3A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8F51-7A8E-4648-AB88-D23CF8EF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8D64-A6B2-445B-A6D5-B11D15A6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325B-3558-4F52-9945-98897417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EF0E-46CA-4FAB-9248-1EC3E50B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F68F-457D-464A-B2B4-3F0BDC6C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A7F3-20F7-48D4-AB45-BA59E899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2018-1D10-4626-9916-7158C137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9D13-023A-4059-A063-EE949B6E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83D4-B05E-4F0C-9805-C9BF92F5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8EC2-0F55-405F-B90B-BFF7B1E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6E24-44C2-4832-9E50-6966826C1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7920-8F31-4B94-9884-2F2BE444D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Quality Design Concepts – I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cture # 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3437-405D-4B22-9EFF-504A3BC187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hesion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cidental cohesion occurs when unrelated components of a system are bundl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cohesion occurs when components performing similar functions are put together (e.g., error hand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cohesion occurs when components that are activated at a single time or time span are pu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52F2-F60F-453C-B586-F78C43C718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hesion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 cohesion occurs when the elements in a component form a single control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al cohesion occurs when all elements of a component operate on the same input data, produce the same output data, or operate on one area of a data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5816-90CE-4124-9748-B4736210B9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hesion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cohesion occurs when the output of one element in a component serves an input for another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cohesion occurs when each part of a component is necessary for the execution of a singl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D498-D6C6-4645-964A-4C8582BA16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hesion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cohesion occurs when the functions of a common class of objects are aggregated with the class. In this scheme, interfaces are specified to reveal as little as possible about the inner workings of th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2CD1-49EA-4F0D-966C-8DC389043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ing is a qualitative indication of the degree to which a module is connected to other modules and to the outsid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coupling is a measure of interconnection among modules in a softwar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 coupling is better. Simple connectivity is easier to understand and less prone to “ripple eff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4CF6-D90C-4069-A9A4-690BB341FCF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of Coupling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coupling occurs when one object interacts with another object through a third component, usually a controller. Another form of indirect coupling occurs when using a data-driven styl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upling occurs when a portion of a data structure is passed among modules. When using data coupling, shorter parameter lists are preferred to longer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496D-6F28-4C79-A126-5D1D1635E1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of Coupling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mp coupling occurs when a portion of data structure is passed among modules. When using stamp coupling, a smaller number of actual arguments are preferable to a larger number because the only data that should be passed to a module is what it 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854F-352C-4DA0-B259-077825AB8F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of Coupling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coupling occurs when information is passed to a module that affects its internal control. This is undesirable because it requires the calling module to know the internal operation of the module being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upling occurs when a module depends on the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44D9-49B6-4127-BDAE-26D3BBC367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of Coupling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coupling occurs when modules access common areas of global or shared data. This form of coupling can cause one module to unintentionally interfere with the operation of anoth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coupling occurs when one module uses information contained in anoth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5727-1D96-4D17-B2E2-D256E64062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esign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Part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C321-A1B4-4EB4-91F5-6260A712BF3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 discussing quality design concepts in the last lecture.  We had discussed abstraction, refinement, and mod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at we had discussed the design principles and design evaluation guidelines for software design process and software desig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F3C3-1A52-471E-8120-DE9D169735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ord of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a core set of ideas for each system design, because they will improve their conceptual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AF7B-55FF-46C1-B9CB-B6659C6F75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design method, which is most suitable for the problem at hand.  Don’t just use the latest or the most popular desig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structured design and object-oriented design methods to choose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design method’s representation scheme.  It helps in understand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45B7-A103-4D6F-9508-937609EAEF5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Design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chanism for the translation of analysis model into design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tation for representing functional components and thei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ristics for refinement and part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quality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36C3-48AF-4FCC-A9EE-34437C6290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ffective Modularity Criteria for Design Method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. Mey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4E61-E778-4558-A24C-E785B9C28C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decompo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compo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9F42-6336-40EC-995A-09EB3CAD28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Decompos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design method provides a systematic mechanism for decomposing the problem into subproblems, it will reduce the complexity of the overal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4E33-ADF1-403E-B1D0-2AC69E25B9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Compos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design method enables existing (reusable) design components to be assembled into a new system, it will yield a modular solution that does not reinvent the 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094E-EAA8-44DE-A66D-336C7AAD23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Understand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odule can be understood as a standalone unit (without reference to other modules), it will be easier to build and easier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91DD-B831-4EB0-8D75-FABA23AAAA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Continu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mall changes to the system requirements result in changes to individual modules, rather than system-wide changes, the impact of change-induced side effects will be min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8A95-0A03-40F6-9D0D-DA7462F511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berrant condition occurs within a module and its effects are constrained within that module, the impact of error-induced side effects will be min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BAE1-351A-45DF-ACC7-EFACBBA7AD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ith our discussion on high quality attributes for desig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also discuss characteristics of software design methods, without discussing any specific desig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77B4-F259-4CB1-A829-297A153373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alked about design concepts, which can be considered as quality attributes of software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ast three lectures, we have discussed software design and how it relates to softwar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is the process where quality is fos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761E-4CB3-4119-AF50-4B1CCC59AC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: A Practitioner’s Approach by Roger Pressman (Chapter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35CF-8E10-4278-A10D-1601096C0885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Quality Design Concept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6752-4F7D-4D6A-8202-4251EBFAF2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Hiding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should be specified and designed so that information (procedures and data) contained within a module is inaccessible to other modules that have no need for such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H means that effective modularity can be achieved by defining a set of independent modules that communicate with one another only that information necessary to achieve a softwar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7F7E-9CE5-4F5D-BC99-FCFF5D0DE3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Hiding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ion helps to define the procedural (or informational) entities that make up th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H defines and enforces access constraints to both procedural detail within a module and any local data structure used by the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FC1A-E854-4AD8-B6DD-80CE76BBBF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Hiding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benefits of IH are achieved when modifications are required during testing and later, during softwar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data and procedures are hidden from other parts of the software, inadvertent errors introduced modifications are less likely to propagate to other locations within th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E071-3A69-45F2-9454-E9633ADAB7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esion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sion is the qualitative indication of the degree to which a module focuses on just on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cohesion is a measure of the relative functional strength of a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hesive module performs one single task or is focused on on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076C-9DCE-4D17-97D1-E247C28A02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esion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cohesive modules are better, however, mid-range cohesion is acce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end cohesion is very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CB2AD-E262-466A-A388-D4AA5CD4B0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7:13:44Z</dcterms:created>
  <dc:creator>Ghulam Ahmad Farrukh</dc:creator>
  <dc:description/>
  <dc:language>en-US</dc:language>
  <cp:lastModifiedBy>ahmadmohsin</cp:lastModifiedBy>
  <dcterms:modified xsi:type="dcterms:W3CDTF">2009-04-17T09:44:22Z</dcterms:modified>
  <cp:revision>211</cp:revision>
  <dc:subject/>
  <dc:title>Software Design and Quality Assurance</dc:title>
</cp:coreProperties>
</file>